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3C1-2937-4C3D-98A9-07080856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1B7-0D5C-448A-AF0B-4F5F406C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4D9-FA13-421A-9918-E1D799CD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FAE-DB02-4CDA-82D7-3821B646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6E5-A22D-4CBF-9D50-60AB6CC2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73B-6E95-40D9-B5C1-CFCCEB5D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1B4-15DA-4694-923D-F441F3F6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DED-833F-4CBF-B477-6C01A56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BC3-2330-4B04-B215-3FB3DBC2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FBE-7080-4EBA-8029-34A4A2E3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F06-EF8A-4EC9-8195-ACD011F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C50-D480-407A-8854-5C546AD2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0303-4900-4CCE-9D52-2C214581C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www.freeplaymusic.com/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hyperlink" Target="http://web.mit.edu/invention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5486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i J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7,201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371600" y="5631480"/>
            <a:ext cx="137160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14600" y="609480"/>
            <a:ext cx="40384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&amp;M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791320"/>
            <a:ext cx="914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ack 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cember 8, 2011,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324480" y="3886200"/>
            <a:ext cx="1600200" cy="106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28600" y="609480"/>
            <a:ext cx="1806480" cy="201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133720" y="4495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Forrest Mars J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457200" y="3809520"/>
            <a:ext cx="4572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304920"/>
            <a:ext cx="327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&amp;M'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324480" y="304920"/>
            <a:ext cx="24386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28600" y="380880"/>
            <a:ext cx="2438280" cy="105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37339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114800"/>
            <a:ext cx="9372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, M&amp;M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eb.mit.edu/i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&amp;M’s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&amp;M’s were small candy that soldier’s ate in the Spanish Civil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5791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amp;M’s started out to be chocolate pellets with a plain white sugary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1M&amp;M’s were sold in C-rations , post exchanges, and ship service sto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amp;M’s were sold at the 1964 Olym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diers ate M&amp;M’s during the Spanish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54 peanut M&amp;M’s were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orrest Mars J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est Mars was born on March 21, 1904 In Minnes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raised in Canada because his parents got divor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est went to Yale university, and got a degree in engineering in 1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est was inspired to invent M&amp;M’s when he saw soldiers eat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orrest’s dad died he took over their family company Mar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5:22:04Z</dcterms:created>
  <dc:creator>install</dc:creator>
  <dc:description/>
  <dc:language>en-US</dc:language>
  <cp:lastModifiedBy>install</cp:lastModifiedBy>
  <dcterms:modified xsi:type="dcterms:W3CDTF">2011-12-16T16:41:49Z</dcterms:modified>
  <cp:revision>8</cp:revision>
  <dc:subject/>
  <dc:title>Slide 1</dc:title>
</cp:coreProperties>
</file>